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BD1F3-795F-44E3-9CBE-ADAF4D90A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F71F5-7FA4-4D7C-AE62-1F8445EF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CEAC8-B047-4401-A0DF-A10B5DCC8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FC4FB-3384-40C1-A12D-92D18C1E7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ABFA-6526-42B8-B8E9-3611239B2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A0BC-200C-4366-A7C3-B030D161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57C3-C605-4556-8612-888D6CAF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FF2B-761A-4263-8156-8AF5A6FC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B26F-748A-4EFA-9D39-E27E36A9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50AF-449F-4637-AA3F-22254A5F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2F70-D4BF-4D50-8385-93045C62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23417-C982-487A-98EF-435A32FB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DC197-2163-438C-AC69-62BF48C3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CA95-5254-4897-A119-8668FEA9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F501-BC48-4E3B-9C8A-1332944D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2407-5B16-4961-807A-D0C726707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05F4-21AC-48EB-BAE8-E81A36B28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7DA37-C4C7-4917-8D3B-F5EF6593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3A964-00F3-4380-9152-A09A597C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3DC6C-0445-4EA5-90D7-C073E3FB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B0061-4825-42F6-BBDC-5759F681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020E5-B735-4804-B406-BC4B2D02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2EDCE-AED7-4170-8CF9-1C350FF9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1FBC8-30FD-4A81-A24D-8C958329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7733-5847-4311-9CBD-1A55CC9BB304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1BE3-77FF-410E-BB2B-0937B6AA9CDA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91DA-9C58-4A17-A7D3-5077CDE5D49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476280"/>
            <a:ext cx="8280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ransition Elements: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elements with electron configuration of incompletely filled d subshells or readily give rise to cations that have incompletely filled d subshe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Elements in Groups 1B-to-7B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268360" y="3789360"/>
            <a:ext cx="4500720" cy="2935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71640" y="4724280"/>
            <a:ext cx="2521080" cy="100980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F2D7B-A6AF-4223-B45C-DDEFB16769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The stability of Filled d orbital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a50021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59280" y="4797360"/>
            <a:ext cx="590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00"/>
                </a:solidFill>
                <a:latin typeface="Comic Sans MS"/>
              </a:rPr>
              <a:t>هناك استثناءات, نتيجة الاستقراريه العاليه عندما يكون مدار                         نصف ممتلئ او ممتل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5175360"/>
            <a:ext cx="26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2F314-6E98-4D6C-B260-88E2CFE917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0532 L 0.33073 0.00532 E">
                                      <p:cBhvr>
                                        <p:cTn id="13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1280" y="1177920"/>
            <a:ext cx="8748720" cy="5707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84360" y="2997360"/>
            <a:ext cx="503280" cy="1944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6560" y="333360"/>
            <a:ext cx="39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404640"/>
            <a:ext cx="237636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6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A325C-00E3-4440-BB9A-B57A152496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stability of Filled d orbita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236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596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170B4-45EC-4E42-B9B7-186BC4DEC1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508 L 0.33091 0.00508 E">
                                      <p:cBhvr>
                                        <p:cTn id="168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20720" y="1554120"/>
            <a:ext cx="8172360" cy="53308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989440" y="3284640"/>
            <a:ext cx="502920" cy="17287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21440" y="3213000"/>
            <a:ext cx="502920" cy="1800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40464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64000" y="528480"/>
            <a:ext cx="259272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u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7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g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u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1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81E7D-3E96-44CE-996A-251C420905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95280" y="5493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The electron configuration of 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47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03640" y="1268280"/>
            <a:ext cx="5651280" cy="3686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9280" y="1700280"/>
            <a:ext cx="3097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4DFCD-979B-4DF4-84FC-6CFC2B2939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7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8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48720" cy="544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9F0DF-E455-4C3C-8DDE-1316A1B4F34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18160" y="429588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ar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82000" y="475308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paired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295280" y="5178600"/>
            <a:ext cx="1447920" cy="1064520"/>
            <a:chOff x="1295280" y="5178600"/>
            <a:chExt cx="1447920" cy="1064520"/>
          </a:xfrm>
        </p:grpSpPr>
        <p:grpSp>
          <p:nvGrpSpPr>
            <p:cNvPr id="232" name=""/>
            <p:cNvGrpSpPr/>
            <p:nvPr/>
          </p:nvGrpSpPr>
          <p:grpSpPr>
            <a:xfrm>
              <a:off x="1295280" y="5178600"/>
              <a:ext cx="1447920" cy="406440"/>
              <a:chOff x="1295280" y="5178600"/>
              <a:chExt cx="1447920" cy="406440"/>
            </a:xfrm>
          </p:grpSpPr>
          <p:sp>
            <p:nvSpPr>
              <p:cNvPr id="233" name=""/>
              <p:cNvSpPr/>
              <p:nvPr/>
            </p:nvSpPr>
            <p:spPr>
              <a:xfrm>
                <a:off x="1295280" y="5585040"/>
                <a:ext cx="381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82880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6232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135900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190512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753200" y="578340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702760" y="429264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i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474984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electrons pa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095880" y="5173200"/>
            <a:ext cx="1447920" cy="1064880"/>
            <a:chOff x="6095880" y="5173200"/>
            <a:chExt cx="1447920" cy="1064880"/>
          </a:xfrm>
        </p:grpSpPr>
        <p:sp>
          <p:nvSpPr>
            <p:cNvPr id="242" name=""/>
            <p:cNvSpPr/>
            <p:nvPr/>
          </p:nvSpPr>
          <p:spPr>
            <a:xfrm>
              <a:off x="6095880" y="558000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2940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6292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15960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670572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3800" y="577836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23888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6264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9616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4228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95280" y="620640"/>
            <a:ext cx="4248000" cy="567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Paramagnetic substance: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s the that contain net </a:t>
            </a:r>
            <a:r>
              <a:rPr b="0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unpaired electrons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n the outermost subshell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المجال الخارجي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and is attract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16360" y="620640"/>
            <a:ext cx="4248360" cy="61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Diamagnetic substance: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is the that do not contain net unpaired electrons (</a:t>
            </a:r>
            <a:r>
              <a:rPr b="0" lang="en-GB" sz="2800" spc="-1" strike="noStrike" u="sng">
                <a:solidFill>
                  <a:srgbClr val="9900cc"/>
                </a:solidFill>
                <a:uFillTx/>
                <a:latin typeface="Comic Sans MS"/>
              </a:rPr>
              <a:t>all electrons are paire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) in the outermost subshell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مجال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خارجي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nd is repell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25F1F-7F7C-447E-84E8-02CDD410046C}" type="slidenum">
              <a:t>17</a:t>
            </a:fld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476280"/>
            <a:ext cx="8748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ic configur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            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144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350208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272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2908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7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872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5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37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13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89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6580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8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71640" y="4221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58920" y="515772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Net one unpaired electron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Par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22AA1-ADCF-467F-83F2-08F1C23F8E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95280" y="476280"/>
            <a:ext cx="87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ctronic configuration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4980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472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6108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65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00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76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3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1016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45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21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97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3284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4149720"/>
            <a:ext cx="7129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ll electrons are paired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Di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56000" y="2567160"/>
            <a:ext cx="57600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7164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1636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61CCB-1D3A-4DC4-AA9B-18C4619028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D281A-25E4-41C7-857D-426E0BC5F7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-76320" y="1488960"/>
            <a:ext cx="9220320" cy="53960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68360" y="333360"/>
            <a:ext cx="820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ification of representative elements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aramagnetic (P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Diamagnetic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" y="119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29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8720" y="155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3272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37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6676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7236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677440" y="112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1557360"/>
            <a:ext cx="0" cy="39592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71640" y="2060640"/>
            <a:ext cx="0" cy="35290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72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77080" y="198900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1708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80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81200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820000" y="1557360"/>
            <a:ext cx="0" cy="39592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8A029-7012-4BC5-93CB-24BE9461D71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468360" y="102888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395280" y="115920"/>
            <a:ext cx="87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elenium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419640" y="1052640"/>
            <a:ext cx="424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40360" y="2349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1636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9272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00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76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5308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35924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53360" y="2997360"/>
            <a:ext cx="5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5420B-3C2F-483D-8AF0-A7078AFBFA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395280" y="105264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95280" y="44280"/>
            <a:ext cx="8748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chromium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059280" y="1273320"/>
            <a:ext cx="6121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EXCEPTION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A4A13-A3EF-4A5E-ADB8-FCFCC4E7661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95280" y="53964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[He] 2s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2p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is the electron configuration of which el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08000" y="1955880"/>
            <a:ext cx="266688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ry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rb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87640" y="1547640"/>
            <a:ext cx="5977080" cy="389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E1FC6-3340-409B-90DC-DDAD1D1C312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4"/>
          <p:cNvSpPr/>
          <p:nvPr/>
        </p:nvSpPr>
        <p:spPr>
          <a:xfrm>
            <a:off x="762120" y="198108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468360" y="490680"/>
            <a:ext cx="867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الكترونات التكافؤ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of vanadium (V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547640"/>
            <a:ext cx="5976720" cy="38973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042920" y="543708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3d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6C9CC-3192-4946-BE50-C595F54E949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4"/>
          <p:cNvSpPr/>
          <p:nvPr/>
        </p:nvSpPr>
        <p:spPr>
          <a:xfrm>
            <a:off x="324000" y="1700280"/>
            <a:ext cx="30956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8088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 of gallium G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044720"/>
            <a:ext cx="5976720" cy="3897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268360" y="5189400"/>
            <a:ext cx="680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a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alence electrons are in the highest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4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 4p</a:t>
            </a:r>
            <a:r>
              <a:rPr b="1" lang="ar-SA" sz="2400" spc="-1" strike="noStrike" baseline="30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7A472-112C-4AA6-8016-3154D7DE372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68000" y="2421000"/>
            <a:ext cx="5170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DE345-64EB-4E5A-9783-09614DB234F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-34920" y="134136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F7D53-8BC6-43AB-AA05-FDFB74D872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409840" y="476280"/>
            <a:ext cx="655488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a         (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3414600" cy="3527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067280" y="4653000"/>
            <a:ext cx="493236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27640" y="2697120"/>
            <a:ext cx="424800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   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0" y="476280"/>
            <a:ext cx="2665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g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60F86-5CEE-4B58-896B-F6CD44A4F7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2786040" cy="2879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484360" y="944640"/>
            <a:ext cx="6335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4930920"/>
            <a:ext cx="583380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9800" y="3057480"/>
            <a:ext cx="561492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404640"/>
            <a:ext cx="4824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9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K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a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4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e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7B7C1-8098-455A-BC49-D261472658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333360"/>
            <a:ext cx="8280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Noble Gases: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elements with electron configuration of complete s &amp;  p sub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(He, Ne, Ar, Kr, Xe, Rn)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Group 8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476360" y="2894040"/>
            <a:ext cx="6120000" cy="3990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236000" y="3141720"/>
            <a:ext cx="360360" cy="237492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5B539-C7D9-4E72-B584-D87745582C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5280" y="620640"/>
            <a:ext cx="8280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presentative Elements: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elements with electron configuration of incompletely filled s or p subsh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mic Sans MS"/>
              </a:rPr>
              <a:t>Elements in Groups 1A-to-7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547640" y="2873520"/>
            <a:ext cx="6048720" cy="3944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47640" y="3141720"/>
            <a:ext cx="720720" cy="23032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80000" y="3500280"/>
            <a:ext cx="1656000" cy="194472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E3E1E-D093-49FF-9728-0F2DC9CD7A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271620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411280" y="944640"/>
            <a:ext cx="6659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500220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3840" y="404640"/>
            <a:ext cx="5041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c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V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Zn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313056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46A0C-6A91-4253-977B-7567AA729E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2920" y="365040"/>
            <a:ext cx="8064720" cy="4719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71640" y="40176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197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H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1628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N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2060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[A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24271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K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2560" y="2859120"/>
            <a:ext cx="64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0" y="5083200"/>
            <a:ext cx="2521080" cy="157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5056200"/>
            <a:ext cx="2448000" cy="1572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35640" y="5083200"/>
            <a:ext cx="3457440" cy="157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DB5B8-5AF7-4C82-A06C-FB438C87A9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8:08Z</dcterms:modified>
  <cp:revision>939</cp:revision>
  <dc:subject/>
  <dc:title>General Chemistry CHEM 110</dc:title>
</cp:coreProperties>
</file>